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F333-6761-45C7-A872-69A045FC3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264F-C056-4C09-8985-D7CE71C00D9A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4766E-AA28-41CD-B757-FF339009E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01E8C-5D29-4092-9A6F-1DF262D39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A83D7-5A88-4278-9E56-3B8EB20A8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F206B-9A13-4FA6-B0ED-317E88169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55DE7-BF0D-4C51-98C3-ED99EB421B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E3465-14C8-424A-96B0-D2844CC830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20E49-F882-4922-9539-93F87DFDBD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3872B-337B-45C6-AC22-AFE1AF8854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EB8B3-A3F6-4B45-B1F8-2276F9D401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DD910-AD8E-487A-81DA-CD90E51133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8D29E-27EE-43C8-9F0F-4C303858A5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50883-AB89-4CF8-9EAA-B8665AAA6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3156F-8328-475D-BC27-D3E254F93C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E0A39-C966-483C-A9EA-FE895B3A33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3259B-42D7-4995-BC91-C3DA59CF9C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B08D8-58BD-4488-B144-FDAE57D3BA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F194C-AC2E-478B-86DD-42D78F36BE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86EF9-FACC-469E-B61F-C31F06AA2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A8BD3-1D8D-4342-8DD8-A4808AB48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20DA4-BD7A-4B43-8DD8-F939FD959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A7D35-2ACE-49B9-9F2D-A811479C1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B251B-40AA-4560-AC9A-47ED306D2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BAB08-F95E-4DC3-B1BE-389B09997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B8A91-2597-4EAC-97EE-30F63EB71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248160" y="4724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29168E30-363F-4129-8A5D-ACACBE8DDC6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43F4A059-6BCB-473D-9038-58752B7621D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51B5DE5-FFEA-42C3-B04E-6965FA47CB5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cy an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ploy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F6625AC7-78FE-45AD-BDA3-85D7937740E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atific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trictions on ra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have been possible to enter into contract  at time of ra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have been possible to enter into contract at time agent purported to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ratify within reasonable time after agent’s unauthorized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EB277FD-B37F-49A2-9F93-332F54AE8D5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icarious 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n one person is held responsible for the torts committed by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th principal and agent may be held respo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re agent is employee, there will be vicarious liability if employee acting within scop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631D3AB-4575-42C0-80D8-DE324C1958B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icarious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ability for agent that is independent contractor is more restri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incipal only liable if tort causing injury took place during actual exercise of authority gr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ually restricted to fraud and negligent mis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agent passed information on innocently, then only principal who gave information is 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CA47C6C-4A08-4019-A929-29C669B6D90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icarious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imposed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e may impose liability on owner of a vehicle when another has been given permission to use motor vehicle (either expressly or impli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5B044A4-6ABF-4694-A108-1D7CCBC2CE5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 – Third Party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enerally, third party has no claim against a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agent has exceeded authority, third party can sue agent for claiming authority not possessed (i.e. tort of “breach of warranty of authority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E73FAD87-F1D5-474E-97CA-1F75CA27404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 – Third Party Relationship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disclosed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agent does not disclose he/she is acting as an agent or refuses to disclose who the principal is, third party must sue the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identity of principal is learned, a (binding) choice must be made as to which party to 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for undisclosed principal is not binding if identity of undisclosed principal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F0AF37B1-3DA3-49FE-BBF3-997F2060041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-Principal Relationshi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uciary duty – agent’s obligation to act in the best interests of the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s duty of utmost good 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take personal advantage of business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disclose all conflicts of inter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ake full disclosure of al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act only for one side in a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7CD81D6-7D34-4838-844D-7F527AFF465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-Principal Relationship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uciary duty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not make profit at expense of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s duty of 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take secret commissions (crimi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s duty to act compet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delegate responsibilities (except where based on certain industry pract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902184D5-5CE3-4877-BC47-28DA4D94943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nd of Agency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ual authority normally ends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ob is fin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ent receives different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ment or agency relationship is changed or 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ual authority also ends when project becomes illegal or the principal dies, goes bankrupt, or becomes ins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76FC025-F48B-4DBF-8777-5FBE7E96D6C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nd of Agency Relationship 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ssue of apparent authority rem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st to avoid apparent authority from the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re apparent authority exists, principal must notify customers and suppliers who deal with agent when agency relationship 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wer of attorney that continues after principal becomes mentally incapacitated now possi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EAC9F45-D214-4B17-8F1F-AF11059C629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roles and limitations placed on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the liability of principals and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fiduciary duty of agents and princip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ppropriate process for disciplining and terminating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the role of unions in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B1DA2D6-71C6-487A-BD19-430619E72D1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istorically recognized as master-servant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lationship now based on contr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stantial amount of legislation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ecialized statutes deal with collective bargaining and unionized work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FE45CF9D-E843-4647-B70A-2938113856F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initions of 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ory tests limited to operation of specific stat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ol Test - Historical test to determine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dependent contractors control their own hours and how they do th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mployees work under direction of employer and can be told what to do and how to d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4782C16-29B2-4EB1-9B52-DD9E319E8BC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initions of Employment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rganization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he individual is an integral and essential part of the organization, he/she is an 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dependent contractor works for 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ant to differentiate as employers are vicariously liable for torts within scop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3FB70A15-7828-4C17-A412-C28833ED237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bligations of Emplo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 must prov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afe work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ppropriate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ols where appropr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imbursement for exp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other requirements included in employment contract, e.g. provide medical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33DC01B-4F63-4703-B437-C080FFBF988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bligations of Employ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 reasonably compe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ve the skills clai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 honest, punctual, loy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erform the work agre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we a fiduciary duty if manager or key 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237D2DAA-A314-40CF-9A25-B6AB90F0BC8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der common law, must give reasonable notice of termination (in absence of “just caus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give notice or pay in lieu of no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ment contract may contain terms related to 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nimum statutory requirements must always be met, but often employee will receive much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61E375A-4F9A-4721-A6B7-91D63244B96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sonable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sed on length of service, importance of job, age, likelihood of finding other employmen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ule of thumb is one month per year of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Employment Standards Act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stablish minimum required no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2D4EB4F-7208-496D-9C93-3F75F10D6CE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ice Peri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534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8850652E-DC73-499D-A735-9EAEC8F4BEB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st 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 notice of termination required if just cause dismis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eing dishonest with employer or acted immor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victed of crime that interferes with ability to perform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sobeyed lawful instruction from 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mmitted an actionable wrong on the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ed on a re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85728A1-A160-4C84-A794-564085F907F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st Caus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ompe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clearly inform employee of shortcomings and give him/her a chance to impr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hould have regular eval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acceptable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not constitute just cause unless very se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vide reprimand and counseling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hould provide progressive 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D2DB704-DABC-462D-8A54-8397DC03936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obligations of employers in providing a safe work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list of best practices that reduce risk of employee suing for unjust dismis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impact of criminal activity o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E79AE022-3321-4C4E-BBE2-4256557073D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st Caus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ability to perform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uman rights legislation requires employer  to accommodate disabled employees providing it doesn’t place unreasonable burden o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disability results in permanent incapacity to return to work, employment contract will be terminated due to fru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ck of work due to economic downturn is not just cause for dismis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77F22A8-163E-4B6D-A1E0-388265A995D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rongful Dismis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involves disputes over whether or not adequate notice (or pay in lieu) was 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just cause, even if found after termination, no notice (or pay in lieu)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laim is for difference in notice received and notice that should have been 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cent cases severely restrict instances in which compensation may be increased if “bad faith” dismis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BE06387-1D66-4F12-996F-3CED87AD5BB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rongful Dismissal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y harm to the employee’s reputation may increase notice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also factor in regular bonuses and 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331BAFC-187E-4F71-BA1F-B9CAD48D851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rongful Dismissal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must make reasonable effort to mitigate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amages will be reduced by whatever employee makes during notice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instatement usually not an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possible if breach of stat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allowed under collectiv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18F25D54-D9B8-4F0F-8C1F-D9624F8DA2A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tructive Dismis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y demotion, transfer, or otherwise changing conditions of employment, employee may be made so uncomfortable that he/she will q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ther intentional or not, this is constructive dismiss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8C3E866E-64D7-43CD-A300-CD4F6972F62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tructive Dismissal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can sue for wrongful dismis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’s obligation to mitigate may require him/her to take alternate position unless imprac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r should communicate with employee and try to identify appropriate arran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1B22E43-91D0-4E4B-926B-40905D5C9F8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 by Employ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may quit for cause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iven dangerous or illegal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properly p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ut into dangerous si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no longer perform duties due to disability or ill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important term of employment contract b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F62046E9-D5C6-425E-8048-06AACCD6F42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 by Employe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may provide for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no contract, must give reasonable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much less than employer is required to give unless employee has special role i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liable for wrongful or inappropriate conduct when le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4D9D9C65-6D4D-4E3A-8A2E-28595CF0754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 by Employe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not take confidential information, customer lists, secret formulas, or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not persuade customers to accompany employee to 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comply with restrictive covenant in contract if reaso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5C3532C-6D03-4263-8A11-B4957567C41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llective Barg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orkers banded together in 19</a:t>
            </a:r>
            <a:r>
              <a:rPr b="0" lang="en-CA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entury to fight poor working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ian Act modelled on the U.S.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agner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hich recognized right to organize collectively if supported by majority of wo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our relations boards established to deal with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ECC536F5-1CBC-491E-B49D-BDECE763AED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ent: Someone who represents another (principal) in dealings with third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an employee or an independent contr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ually involves entering into contracts on behalf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instead include other services such as filing documents or negotiation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8E75B13F-6AD1-41E2-BC73-8CA5FED8761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eneral right for employees to be members of trade union and bargain colle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firmed as a right under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Charter of Rights and Freed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nagement and some essential services ex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he required minimum percentage of workers have signed up as members, union may apply to Labour Relations Board for 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17C2078F-300E-40BF-98E0-4D9CB4ACDA3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cognition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duced through certif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Jurisdictional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putes between unions as to who will represent new group of employees or who will perform certain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olved by application to Labour Relations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153A756B-E327-48A1-9A21-9FDE8700989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er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bargaining unit is identified and requisite number of employees sign up, union applies to board for 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 some jurisdictions, with enough signatures, union can be certified without a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st jurisdictions require a certification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union is certified, employer must deal with union exclus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4425C3A1-BBDA-4767-84A4-8C54276B0D0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ertific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interference with certification process is an unfair labour practice and prohib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riminal offence to fire or intimidate anyone from becoming member and may trigger automatic cer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s have the right to comment on organization process and its effects o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s may also join together for bargaining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850107DF-12E4-4B53-A17E-A05BCD6F57F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certified, either party can serve notice to commence barg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mbers of union must ratify collective agreement for it to be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ither party or the government can request mediation to assist with bargain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job action allowed during me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unsuccessful, mediator will “book ou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8E0EF45-E619-4F7D-B511-83BD343770D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reement must include certain ter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y dispute during agreement (rights dispute) must be handled through a grievance process culminating in arbi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rikes and walkouts illegal during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greement must be at least one year in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contract can be imposed by labour relations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FCA1F1C8-6638-4096-86BC-DC25D5B4EA4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ions often insist on union shop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ture employees must join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ception for those with religious obj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may require a closed 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nly members of union will be h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ssible to have a Rand formula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t required to join union, but must pay dues and are subject to collective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eck-off provision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mployer deducts union dues from 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EECD86BF-9D10-470A-B2C0-45026530706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ob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permitted during interest disp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pute over terms to be included in agre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have bargained in good faith; mediators must have booked out; must serve notice to other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rike – employees withdraw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ockout – employer closes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C1617CF-424C-40E9-8380-4E45394C334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ob A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 will try to keep business running using management or replacement wo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ic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ppear at job site attempting to persuade customers, suppliers, and employees not to deal with 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not attempt to prevent someone from crossing picket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ade unions must properly represent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E1C5AC69-4CA7-4F74-B787-36435318680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mployment Legi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orkers’ comp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mployers contribute to fund that works like insurance; pays if employee injured or becomes ill on the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stablishes health and safety standards in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ment insur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oth employer and employee con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enefits paid to unemployed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200EECFA-2F94-45EF-B82D-E58AFAEC8FF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reation of Ag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ated when principal grants authority to agent on his/her behalf, usually by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created gratuit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May be inferred from conduct of pa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3892CF4F-77EA-4D23-9CF2-1CEF3CC9EE9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mployment Legisl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uman righ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hibits discrimination and hara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ment standa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 minimum standards for wages, notice, overtime, leav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ndards cannot be waived by contract unless higher standard is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 boards to hear compl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F26F231D-B263-450B-8BC2-7ED44007367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ant to establish good working relationship with employees, including clear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ir employment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ducation of employees and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ir disciplinary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know employee rights, including right to du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1C516AE-4138-48D5-804C-0EFFA34DD1C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process of progressive discip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problem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documentation of evidence of behaviour pattern (with records available for subsequent litig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regular evaluation reviews with problems ident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31C0658-B015-42CA-9FE5-81090F4F6A2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plifting and employee th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theft – Section 322 of Criminal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mischief (e.g., sabotage) – Section 430 of Criminal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ud – Section 380 of Criminal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plifting by customers – also theft, but usually involves lesser am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7C3F8C2-5E69-4825-934F-3BF2D7BCE5C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plifting and employee thef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ion and prevention of crime are 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alance costs against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employee morale and customer good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make employees aware of surveillance to avoid violation of privacy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s must be well-trained to deal with shoplif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3EDF0F89-7A79-48B0-AE8F-DDC64CB9F78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thef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respect employee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use internal or police invest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reasonable grounds to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olice can get search war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prove beyond a reasonable doubt to prose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terminate employee for just 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not obstruct ju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8DA9BE2-5B98-4E0F-BC46-657C3A44D59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frau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ion is v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to inform employees of surveillance; privacy legislation varies by prov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yers should be involved at first stage (forensic au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use great care in dealing with employee termination, confidentiality, recovery of money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inal prosecution may be appropr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6BAF82A8-FEFC-4CF9-8696-790A83C2471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ual authority may be expressed or im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pressed authority - When principal directly grants authority to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lied authority – Derived from expressed terms and surrounding circum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arent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does something to lead a third party to think agent has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party can rely on repres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423F78A-D248-4337-AB31-3DF85C2C14B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Estop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events employer from denying someone has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re principal does something to lead a third party to reasonably believe that the “agent” has authority to act, the principal cannot later deny such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sed on apparent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A1EA3F1-D18F-49CE-88A2-81BA480E333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6914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ECE2A4B-E640-4BE4-8215-A7C275B5F11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a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re agent exceeds both actual and apparent authority, principal is not bound but may still ratify (creating a binding con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ratify intentionally by expressly rat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ratify inadvertently by principal taking some benefit under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rants retroactive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48:39Z</dcterms:created>
  <dc:creator>Client Name</dc:creator>
  <dc:description/>
  <dc:language>en-US</dc:language>
  <cp:lastModifiedBy>User</cp:lastModifiedBy>
  <dcterms:modified xsi:type="dcterms:W3CDTF">2012-04-24T16:29:27Z</dcterms:modified>
  <cp:revision>187</cp:revision>
  <dc:subject/>
  <dc:title>Slide 1</dc:title>
</cp:coreProperties>
</file>